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57.wmf" ContentType="image/x-wmf"/>
  <Override PartName="/ppt/media/image1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9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0.jpeg" ContentType="image/jpeg"/>
  <Override PartName="/ppt/media/image61.jpeg" ContentType="image/jpeg"/>
  <Override PartName="/ppt/media/image4.jpeg" ContentType="image/jpeg"/>
  <Override PartName="/ppt/media/image5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0.png" ContentType="image/png"/>
  <Override PartName="/ppt/media/image65.jpeg" ContentType="image/jpeg"/>
  <Override PartName="/ppt/media/image92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67.jpeg" ContentType="image/jpeg"/>
  <Override PartName="/ppt/media/image68.jpeg" ContentType="image/jpeg"/>
  <Override PartName="/ppt/media/image99.jpeg" ContentType="image/jpeg"/>
  <Override PartName="/ppt/media/image71.jpeg" ContentType="image/jpeg"/>
  <Override PartName="/ppt/media/image96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9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5.jpeg" ContentType="image/jpeg"/>
  <Override PartName="/ppt/media/image73.jpeg" ContentType="image/jpeg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94.jpeg" ContentType="image/jpeg"/>
  <Override PartName="/ppt/media/image42.png" ContentType="image/png"/>
  <Override PartName="/ppt/media/image50.jpeg" ContentType="image/jpeg"/>
  <Override PartName="/ppt/media/image87.jpeg" ContentType="image/jpeg"/>
  <Override PartName="/ppt/media/image2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847-3EFC-443F-A8E9-B19BE54A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9A1-6085-481F-BBC0-85AEC81F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37B-1D14-4F85-90CB-3AD1FE31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7D4-D98A-42C7-879A-510F9997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2A0-91BD-4861-A181-9A4361E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52A-A973-4C1B-AF35-E4B5506B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19B-623C-449B-A54A-3867F051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B97-B531-4973-AD23-095D4D9F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21E-E26C-4625-8C36-E19E2C04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B4D-10F6-4751-976C-C37621F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37E-B5F8-4978-857E-ACD308C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957-A223-4913-8053-8270B54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F1D-241E-4603-A82E-1B384993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hyperlink" Target="http://www.africana.com/real/blackboard/dubois_arrest.ram" TargetMode="Externa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rlem Re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de S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Your (Nearly) Technologically Savvy Profess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De San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_x000e_woman by rolls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839960" y="1523880"/>
            <a:ext cx="5462640" cy="3810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019760" y="60800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lthy Harl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_x0012_Carl Van Vechten 2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27240" y="-120600"/>
            <a:ext cx="488952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_x0012_Madame C.J. Walker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97160" y="1143000"/>
            <a:ext cx="634968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725920" y="60800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ame C.J. 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#13;marcus garvey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65400" y="482760"/>
            <a:ext cx="4813200" cy="589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37520" y="14320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f_Marcus Garvey 2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143000" y="1066680"/>
            <a:ext cx="6764400" cy="4272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270880" y="585144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us Ga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_x000b_UNIA Parade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440000" y="1238400"/>
            <a:ext cx="6262560" cy="4381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424600" y="60800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A Pa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 and Dance in Har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_x000b_cotton club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752480" y="1905120"/>
            <a:ext cx="580572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38960" y="36273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tton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_x000c_Bessie Smith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38280" y="685800"/>
            <a:ext cx="483408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747000" y="19652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_x000e_Bessie Smith 2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152280"/>
            <a:ext cx="4539960" cy="6705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80880" y="2133720"/>
            <a:ext cx="20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ie S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essie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_x000e_Billie Holiday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411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096800" y="562284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e Holl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_x000c_Cab Calloway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381400" y="684360"/>
            <a:ext cx="4381200" cy="5487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7223400" y="204156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 Callo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s of Harlem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_x000c_harlem folks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804960" y="1434960"/>
            <a:ext cx="7532640" cy="3988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186000" y="5775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ty Within A C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rane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_x000e_Duke Ellington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4147920" cy="5035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412800" y="44136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 Ell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_x0010_Duke Ellington 2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68280" y="1136520"/>
            <a:ext cx="6605640" cy="4584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716280" y="1364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 Ellington Orch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_x0010_Duke Ellington 3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43200" y="0"/>
            <a:ext cx="474516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9680" y="12034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D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_x0010_Duke Ellington 4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048120" y="533520"/>
            <a:ext cx="404784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051200" y="188928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o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_x000c_Ethel Waters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46280" y="519120"/>
            <a:ext cx="4051440" cy="5818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39560" y="150804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l W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x000e_Ethel Waters 2                                                 0000652A&#9;De Santis                      ABA78158:"/>
          <p:cNvPicPr/>
          <p:nvPr/>
        </p:nvPicPr>
        <p:blipFill>
          <a:blip r:embed="rId1"/>
          <a:srcRect l="0" t="0" r="30062" b="30058"/>
          <a:stretch/>
        </p:blipFill>
        <p:spPr>
          <a:xfrm>
            <a:off x="2514600" y="304920"/>
            <a:ext cx="5284800" cy="6324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63240" y="89856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l W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_x0012_Fletcher Henderson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24120" y="754200"/>
            <a:ext cx="3695760" cy="5348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595080" y="112716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_x000e_Florence Mills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35200" y="735120"/>
            <a:ext cx="3873600" cy="5386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63600" y="11271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ce M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_x0011_Frogs Dance Group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95360" y="1238400"/>
            <a:ext cx="6351480" cy="4381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111480" y="6156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O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abulous Josephine B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_x0011_Josephine Baker 1                                              0000652A&#9;De Santis                      ABA78158:"/>
          <p:cNvPicPr/>
          <p:nvPr/>
        </p:nvPicPr>
        <p:blipFill>
          <a:blip r:embed="rId1"/>
          <a:srcRect l="0" t="0" r="-23728" b="-23750"/>
          <a:stretch/>
        </p:blipFill>
        <p:spPr>
          <a:xfrm>
            <a:off x="3048120" y="1600200"/>
            <a:ext cx="38973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#13;Black Yankees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3581280" y="579132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ack Yank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_x000f_Josephine Baker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895480" y="1066680"/>
            <a:ext cx="4191120" cy="5310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46280" y="196524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phin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str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_x0011_Josephine Baker 2                                              0000652A&#9;De Santis                      ABA78158:"/>
          <p:cNvPicPr/>
          <p:nvPr/>
        </p:nvPicPr>
        <p:blipFill>
          <a:blip r:embed="rId1"/>
          <a:srcRect l="0" t="0" r="-22545" b="-22574"/>
          <a:stretch/>
        </p:blipFill>
        <p:spPr>
          <a:xfrm>
            <a:off x="2895480" y="1066680"/>
            <a:ext cx="3984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_x0011_Josephine Baker 3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819520" y="1060560"/>
            <a:ext cx="35049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_x0011_Josephine Baker 4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24080" y="1066680"/>
            <a:ext cx="289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_x0011_Josephine Baker 5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022560" y="1079640"/>
            <a:ext cx="309888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_x0011_Josephine Baker 6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09680" y="139680"/>
            <a:ext cx="4724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_x0011_Josephine Baker 7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65320" y="1054080"/>
            <a:ext cx="3213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_x0011_Josephine Baker 8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43200" y="0"/>
            <a:ext cx="48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_x000f_Louis Armstrong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76440" y="1523880"/>
            <a:ext cx="419112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327560" y="5176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Armst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_x0011_Louis Armstrong 2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3149280" cy="3822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182040" y="4413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one more tim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33720" y="5699160"/>
            <a:ext cx="37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ing “What Did I Do to be So Black and Blu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uis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13;Flapper Girls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41680" y="519120"/>
            <a:ext cx="3860640" cy="5818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75240" y="280368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&#9;Minstrels  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030400" y="569880"/>
            <a:ext cx="5081760" cy="5716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" y="166068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st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&#13;mr. bojangles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74760" y="843120"/>
            <a:ext cx="6593040" cy="5170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270160" y="62326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Boj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_x0012_James Reese Europe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562040" y="165240"/>
            <a:ext cx="6019920" cy="6527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670680" y="1203480"/>
            <a:ext cx="10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_x000f_mr. bojangles 2                                                0000652A&#9;De Santis                      ABA78158:"/>
          <p:cNvPicPr/>
          <p:nvPr/>
        </p:nvPicPr>
        <p:blipFill>
          <a:blip r:embed="rId1"/>
          <a:srcRect l="0" t="0" r="28885" b="28897"/>
          <a:stretch/>
        </p:blipFill>
        <p:spPr>
          <a:xfrm>
            <a:off x="2666880" y="228600"/>
            <a:ext cx="4507200" cy="6375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64680" y="150804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jang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0c_Paul Robeson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685800"/>
            <a:ext cx="4587840" cy="5568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824040" y="158436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_x0010_sissel and blake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38120" y="1682640"/>
            <a:ext cx="6465960" cy="3492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421720" y="58514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sel and B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lem Renaissance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_x0016_aaron douglas painting                                         0000652A&#9;De Santis                      ABA78158:"/>
          <p:cNvPicPr/>
          <p:nvPr/>
        </p:nvPicPr>
        <p:blipFill>
          <a:blip r:embed="rId1"/>
          <a:srcRect l="0" t="0" r="-32682" b="-32677"/>
          <a:stretch/>
        </p:blipFill>
        <p:spPr>
          <a:xfrm>
            <a:off x="2895480" y="1752480"/>
            <a:ext cx="4768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_x000e_Augusta Savage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47840" y="971640"/>
            <a:ext cx="4648320" cy="491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595080" y="18892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_x0011_covarrubias print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30560" y="1143000"/>
            <a:ext cx="288288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41720" y="112716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rru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x0011_cullen book cover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24080" y="1352520"/>
            <a:ext cx="2895840" cy="4152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00000" y="22701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#13;Harlem Parade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95360" y="1327320"/>
            <a:ext cx="6351480" cy="420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945960" y="57754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de in Har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&#10;The Crisis 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29080" y="569880"/>
            <a:ext cx="3886200" cy="5716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17680" y="188928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_x0015_ex-coloured man cover                                          0000652A&#9;De Santis                      ABA78158:"/>
          <p:cNvPicPr/>
          <p:nvPr/>
        </p:nvPicPr>
        <p:blipFill>
          <a:blip r:embed="rId1"/>
          <a:srcRect l="0" t="0" r="-90709" b="-90713"/>
          <a:stretch/>
        </p:blipFill>
        <p:spPr>
          <a:xfrm>
            <a:off x="3429000" y="1371600"/>
            <a:ext cx="348768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700600" y="47847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_x0014_home to harlem cover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41680" y="747720"/>
            <a:ext cx="3860640" cy="5361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95080" y="21938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_x0012_hurston book cover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703680" y="2130480"/>
            <a:ext cx="1736640" cy="2597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203480" y="20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_x0011_Weary Blues Cover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870280" y="1187280"/>
            <a:ext cx="3403440" cy="4483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595080" y="24987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_x0013_jacob reis painting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37040" y="1486080"/>
            <a:ext cx="2869920" cy="3886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127520" y="2346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 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_x000b_phayden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0"/>
            <a:ext cx="421776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955960" y="585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1523880" y="5627520"/>
          <a:ext cx="5945400" cy="123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627520"/>
                    <a:ext cx="594540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_x000b_hayden1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676520" y="228600"/>
            <a:ext cx="6095880" cy="45514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444320" y="5105520"/>
            <a:ext cx="65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Big Ben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rom the John Henry Se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Museum of African American Art Los Ange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_x000b_hayden2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600200" y="228600"/>
            <a:ext cx="6262560" cy="4826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029760" y="5470560"/>
            <a:ext cx="53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lu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tch Billops Collection, Inc., New Y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_x000b_hayden3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209680" y="0"/>
            <a:ext cx="481176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295000" y="5788080"/>
            <a:ext cx="339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Janitor who P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National Museum of American 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mithsonian Instit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ashington, D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3;Protest March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554120" y="1263600"/>
            <a:ext cx="6033960" cy="433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945960" y="59277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st M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_x000b_hayden5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414440" y="792000"/>
            <a:ext cx="6313680" cy="5272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430080" y="6156360"/>
            <a:ext cx="202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Jeune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atercolor on paper, 14 x 17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ollection Dr. Meredith F. Sirman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ew Y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_x000c_wjohnson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819520" y="304920"/>
            <a:ext cx="3449520" cy="5029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120" y="5334120"/>
            <a:ext cx="9124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illiam H. Johnson entered the Harlem Renaissance during its making. He came to New York in 1918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lorence, South Carolina, to embark on his career. He became a student at the National Academy of Desig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e was educated there for five years, during which he learned from greats such as George Luks and Char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wthorne. He then traveled to places in North Africa and Europe to paint and find residence. It was by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uggestion of Hawthorne that he traveled to Paris in 1826, where he settled, painted, and studied the work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odern European mas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_x000c_johnson1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743200" y="0"/>
            <a:ext cx="55641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7280" y="207972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irl in a Red Dress, ca. 19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_x000c_johnson2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171880" y="372960"/>
            <a:ext cx="4800600" cy="6110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0" y="57913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lf-Portrai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0c_johnson3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143000" y="76320"/>
            <a:ext cx="8001000" cy="6781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6461280"/>
            <a:ext cx="197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wing Low Sweet Chari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ational Museum of American 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_x000c_johnson4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197080" y="620640"/>
            <a:ext cx="4749840" cy="5614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34360" y="579132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in G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ational Museum of America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mithsonian Institu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ashington, D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_x000b_lmjones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5486400" y="0"/>
            <a:ext cx="3408480" cy="5334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0" y="2895480"/>
            <a:ext cx="32253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ois Mailou Jones was a pioneering artist of the Harlem Renaiss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orn in New England, her life was still clouded by the prejudices of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veryday African American life. She began her career after attending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chool of the Museum of Fine Art in Boston. Afterwards, she w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rough the racial barriers to exhibit her works to the world. S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ersevered through many roadblocks and prejudices, without 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osing her passion to express herself through 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&#10;jones2.jpg 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757520" y="1390680"/>
            <a:ext cx="5627520" cy="4076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126440" y="584352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ishing Sm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enemsha, Massachusettes, 1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&#10;jones3.jpg 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523880" y="-380880"/>
            <a:ext cx="6121440" cy="7238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518760" y="5942160"/>
            <a:ext cx="175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egro Youth, 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&#10;harlem.gif 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304920"/>
            <a:ext cx="4559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#13;shoeshine man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668600" y="1022400"/>
            <a:ext cx="5805360" cy="481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90160" y="2422440"/>
            <a:ext cx="8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s of the Harlem Re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_x000c_Claude McKay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048120" y="1905120"/>
            <a:ext cx="3149640" cy="3822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282320" y="289404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ude McK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_x000e_Claude McKay 2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46280" y="601560"/>
            <a:ext cx="4051440" cy="5653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824040" y="24987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K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219320" y="380880"/>
            <a:ext cx="685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Must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must die, let it not be like h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unted and penned in an inglorious spo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le round us bark the mad and hungry do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king their mock at our accursed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must die, O let us nobly d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that our precious blood may not be 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vain; then even the monsters we de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all be constrained to honor us though d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 kinsmen! we must meet the common fo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ugh far outnumbered let us show us bra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for their thousand blows deal one death-b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though before us lies the open gr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ke men we'll face the murderous, cowardly p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sed to the wall, dying, but fighting b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-Claude McK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mckay.aif" descr=""/>
          <p:cNvPicPr/>
          <p:nvPr/>
        </p:nvPicPr>
        <p:blipFill>
          <a:blip r:embed="rId1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_x000e_Countee Cullen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3149280" cy="3822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822960" y="21178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_x0010_Countee Cullen 2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305080" y="696960"/>
            <a:ext cx="4533840" cy="5462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9800" y="1736640"/>
            <a:ext cx="12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_x0014_James Weldon Johnson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70320" y="569880"/>
            <a:ext cx="4203360" cy="5716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443160" y="1660680"/>
            <a:ext cx="11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_x0016_James Weldon Johnson 2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3149280" cy="3822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824040" y="1812960"/>
            <a:ext cx="11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&#10;JeanToomer 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66880" y="533520"/>
            <a:ext cx="3892680" cy="4724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822600" y="112716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&#10;brown3.gif                                                     00000012&#9;De Santis                      ABA78158:"/>
          <p:cNvPicPr/>
          <p:nvPr/>
        </p:nvPicPr>
        <p:blipFill>
          <a:blip r:embed="rId1"/>
          <a:stretch/>
        </p:blipFill>
        <p:spPr>
          <a:xfrm>
            <a:off x="2133720" y="228600"/>
            <a:ext cx="5333760" cy="6400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64680" y="1889280"/>
            <a:ext cx="17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Raine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brown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&#13;Jessie Fauset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24120" y="12600"/>
            <a:ext cx="3695760" cy="6832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89800" y="15843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12_Soldiers on Parade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477800" y="1327320"/>
            <a:ext cx="6186600" cy="420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650680" y="608004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iers on Pa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ston Hughes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_x000f_Langston Hughes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213000" y="1955880"/>
            <a:ext cx="3537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5440" y="457200"/>
            <a:ext cx="827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Negro Speaks of Rivers (to W. E. B. B. DuBo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've known ri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've known rivers ancient as the world and older than th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 human blood in human v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y soul has grown deep like the 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bathed in the Euphrates when dawns were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built my hut near the Congo and it lulled me to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looked upon the Nile and raised the pyramids abov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heard the singing of the Mississippi when Abe Lincoln w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wn to New Orleans, and I've seen its muddy bosom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golden in the sun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Langston Hug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hughes.aif" descr=""/>
          <p:cNvPicPr/>
          <p:nvPr/>
        </p:nvPicPr>
        <p:blipFill>
          <a:blip r:embed="rId1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_x0011_Langston Hughes 2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33720" y="228600"/>
            <a:ext cx="5059080" cy="6324480"/>
          </a:xfrm>
          <a:prstGeom prst="rect">
            <a:avLst/>
          </a:prstGeom>
          <a:ln w="0">
            <a:noFill/>
          </a:ln>
        </p:spPr>
      </p:pic>
      <p:pic>
        <p:nvPicPr>
          <p:cNvPr id="206" name="sunnyland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_x0011_Langston Hughes 3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581280" y="1523880"/>
            <a:ext cx="30783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_x0011_Langston Hughes 4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380880"/>
            <a:ext cx="4076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_x0011_Langston Hughes 5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86000" y="380880"/>
            <a:ext cx="5335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1_Langston Hughes 6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_x0011_Langston Hughes 7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16120" y="671400"/>
            <a:ext cx="3911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_x0011_Langston Hughes 8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36600" y="1174680"/>
            <a:ext cx="6669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_x0011_Langston Hughes 9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66880" y="914400"/>
            <a:ext cx="41166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13;Wedding Party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17520" y="1073160"/>
            <a:ext cx="670716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802240" y="623268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rlem Wedd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_x000c_Nella Larsen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28760" y="387360"/>
            <a:ext cx="4686480" cy="6083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365760" y="150804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_x000e_Nella Larsen 2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38280" y="457200"/>
            <a:ext cx="4754520" cy="6095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594360" y="105084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_x000e_Nella Larsen 3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66880" y="685800"/>
            <a:ext cx="3856320" cy="5778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594360" y="1432080"/>
            <a:ext cx="13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_x0010_W. E. B. Du Bois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98920" y="762120"/>
            <a:ext cx="3746160" cy="5333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38240" y="135576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. E. B. Du B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_x0012_W. E. B. Du Bois 2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33720" y="304920"/>
            <a:ext cx="5086080" cy="6172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824400" y="21938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B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a Neale Hurston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_x0014_Zora Neale Hurston 3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1585800"/>
            <a:ext cx="3730680" cy="5272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289800" y="531828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You Bac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zora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_x0012_Zora Neale Hurston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14600" y="76320"/>
            <a:ext cx="46926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_x0014_Zora Neale Hurston 2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914400"/>
            <a:ext cx="41479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_x0014_Zora Neale Hurston 4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09680" y="228600"/>
            <a:ext cx="5240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_x0010_Carl Van Vechten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981080" y="304920"/>
            <a:ext cx="5943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18:45:08Z</dcterms:created>
  <dc:creator>English</dc:creator>
  <dc:description/>
  <cp:keywords/>
  <dc:language>en-US</dc:language>
  <cp:lastModifiedBy>Sacerdote, Kevin R.</cp:lastModifiedBy>
  <dcterms:modified xsi:type="dcterms:W3CDTF">2016-12-08T13:38:39Z</dcterms:modified>
  <cp:revision>63</cp:revision>
  <dc:subject/>
  <dc:title>PowerPoint Presentation  -  The Harlem Renaissance</dc:title>
</cp:coreProperties>
</file>